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735C5-96A4-4021-8217-0D7705B19B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E411E-EF11-454A-A7FE-8CE87BD0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92D1-A8E0-4F01-AF49-87718965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DFBD9-4FA6-457F-92E2-5E18BE0225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122B8-0B6C-44AA-B6E2-F1749399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6FB2B-1523-4257-9664-FAA316BA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1471-45A4-43C1-ACDF-0D526055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01562-CF3F-44B8-907C-1B3C14D5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85668-37C2-4B23-9AA6-9A3F55CA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096C3-AD78-4EAA-B228-82D670A2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518FF-54D6-4397-B19D-987F9D4A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C014A-1365-453A-A09A-8148F054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0957AB96-7469-4651-A6A5-19FD21DA2F0B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56B152FA-1E1F-4CC6-9DCC-191E2C3A7FD1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1619280" y="1714680"/>
            <a:ext cx="571500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76280" bIns="47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e06b20"/>
                </a:solidFill>
                <a:latin typeface="Calibri"/>
              </a:rPr>
              <a:t>Thank you for using PHPPowerPoin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714680"/>
            <a:ext cx="5715000" cy="1440"/>
          </a:xfrm>
          <a:prstGeom prst="line">
            <a:avLst/>
          </a:prstGeom>
          <a:ln w="12600">
            <a:solidFill>
              <a:srgbClr val="e06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5524560"/>
            <a:ext cx="5715000" cy="1440"/>
          </a:xfrm>
          <a:prstGeom prst="line">
            <a:avLst/>
          </a:prstGeom>
          <a:ln w="12600">
            <a:solidFill>
              <a:srgbClr val="e06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